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FFBF-2C3E-445F-9156-5CFE514DA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D93E-B770-42B9-847F-A29CAD05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9F3E-3582-4121-B8A6-D49607145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80D5-6296-4409-B65E-56A4C3D60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7714-6268-4DFC-B918-C1582DA3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8924-6080-406C-8069-FD9F1205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9D1E-8028-4CF1-A6C6-27867F0F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3033-A3FA-4B4A-8943-A3B1138E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4A0A-A17C-41C3-ACA9-A890C901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71AB-618B-4BCD-8125-601F151A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7B3D-5955-46E8-93C4-8652E2D0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04F4-3854-471E-B4D3-0FC44443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B190-1034-4CF7-97FF-2AC1FCD3E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16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600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ORDERS  ASSOC.                 BORDERS  ASSOC  100TH                      BERWICKSHIRE  ASSOC.                    ABBOTTSFORD                                ABBOTSFORD                           ABOTTSFORD  100TH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2767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CRUM                                             AYTON                                              AYTON                                                 BERWICK                                       BERWICK                                        BERWICK  100TH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952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62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HIRNSIDE                                    CHIRNSIDE                                       CHIRNSIDE  75TH                                COLDSTREAM                               COLDSTREAM                                    COLDSTREA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952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ROUGHTON  PUBLIC                           BUCCLEUGH                                       BUCCLEUGH                                   BUCCLEUGH                                       BUCCLEUGH                                   BUCCLEUGH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31800" y="620640"/>
            <a:ext cx="914400" cy="1023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728880" y="620640"/>
            <a:ext cx="1024200" cy="987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168880" y="476280"/>
            <a:ext cx="111600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681960" y="476280"/>
            <a:ext cx="1133280" cy="1157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8337600" y="404640"/>
            <a:ext cx="1023840" cy="1230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631800" y="2205000"/>
            <a:ext cx="878040" cy="1069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3728880" y="2276640"/>
            <a:ext cx="914400" cy="1023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2216160" y="2349360"/>
            <a:ext cx="822240" cy="951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5168880" y="2133720"/>
            <a:ext cx="1225440" cy="1179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6753240" y="2276640"/>
            <a:ext cx="1006560" cy="1023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1"/>
          <a:stretch/>
        </p:blipFill>
        <p:spPr>
          <a:xfrm>
            <a:off x="8408880" y="2133720"/>
            <a:ext cx="1042920" cy="1133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2"/>
          <a:stretch/>
        </p:blipFill>
        <p:spPr>
          <a:xfrm>
            <a:off x="560520" y="3789360"/>
            <a:ext cx="1133280" cy="1120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3"/>
          <a:stretch/>
        </p:blipFill>
        <p:spPr>
          <a:xfrm>
            <a:off x="2000160" y="3789360"/>
            <a:ext cx="1170000" cy="117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4"/>
          <a:stretch/>
        </p:blipFill>
        <p:spPr>
          <a:xfrm>
            <a:off x="3728880" y="3933720"/>
            <a:ext cx="1024200" cy="1009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5"/>
          <a:stretch/>
        </p:blipFill>
        <p:spPr>
          <a:xfrm>
            <a:off x="5240160" y="3933720"/>
            <a:ext cx="1043280" cy="1024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6"/>
          <a:stretch/>
        </p:blipFill>
        <p:spPr>
          <a:xfrm>
            <a:off x="6824520" y="4005360"/>
            <a:ext cx="1060560" cy="987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7"/>
          <a:stretch/>
        </p:blipFill>
        <p:spPr>
          <a:xfrm>
            <a:off x="8337600" y="3860640"/>
            <a:ext cx="1060560" cy="1106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8"/>
          <a:stretch/>
        </p:blipFill>
        <p:spPr>
          <a:xfrm>
            <a:off x="704880" y="5877000"/>
            <a:ext cx="895320" cy="777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9"/>
          <a:stretch/>
        </p:blipFill>
        <p:spPr>
          <a:xfrm>
            <a:off x="2144880" y="5805360"/>
            <a:ext cx="950760" cy="827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0"/>
          <a:stretch/>
        </p:blipFill>
        <p:spPr>
          <a:xfrm>
            <a:off x="3800520" y="5661000"/>
            <a:ext cx="1006560" cy="1009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1"/>
          <a:stretch/>
        </p:blipFill>
        <p:spPr>
          <a:xfrm>
            <a:off x="6824520" y="5589720"/>
            <a:ext cx="1024200" cy="1033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2"/>
          <a:stretch/>
        </p:blipFill>
        <p:spPr>
          <a:xfrm>
            <a:off x="8553600" y="5661000"/>
            <a:ext cx="749160" cy="950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3"/>
          <a:stretch/>
        </p:blipFill>
        <p:spPr>
          <a:xfrm>
            <a:off x="5384880" y="5300640"/>
            <a:ext cx="947520" cy="1306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4"/>
          <a:stretch/>
        </p:blipFill>
        <p:spPr>
          <a:xfrm>
            <a:off x="2000160" y="333360"/>
            <a:ext cx="119088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7T13:26:42Z</dcterms:created>
  <dc:creator>JOHN YOUNG</dc:creator>
  <dc:description/>
  <dc:language>en-US</dc:language>
  <cp:lastModifiedBy>JY</cp:lastModifiedBy>
  <dcterms:modified xsi:type="dcterms:W3CDTF">2008-04-29T08:41:01Z</dcterms:modified>
  <cp:revision>28</cp:revision>
  <dc:subject/>
  <dc:title>No Slide Title</dc:title>
</cp:coreProperties>
</file>